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0EB1-CCD1-4FD9-973A-055C0BA4D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83EA-6B6D-478A-BB0D-238E132DA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DD6D-6012-4A69-8544-432A6071C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DE45-DB70-42D5-8425-89BA9E9DF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773B-33C1-454D-AB93-857479404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AAD6-BAD0-4E74-BA3C-0814F277B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F1CF-52F4-4DDC-9D31-B29AC041D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4E7F-FC9E-4AA7-882E-49F45C89D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080E-BCF8-4A2F-B88D-7E5764736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4B9C-A66C-4408-A3B7-6EC9B391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3CC1-73F5-4C56-8C02-730529DE0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B2B0-79AC-447C-8002-998BD2B4B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1AD08-4C7F-4273-B4C6-D5DCE4D829A7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f"/>
          </a:solidFill>
          <a:ln w="190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Arial"/>
              </a:rPr>
              <a:t>MERHAMET ETMİYOR GÖZYAŞIMA.</a:t>
            </a:r>
            <a:br>
              <a:rPr sz="4000"/>
            </a:br>
            <a:br>
              <a:rPr sz="4000"/>
            </a:br>
            <a:r>
              <a:rPr b="1" lang="tr-TR" sz="4000" spc="-1" strike="noStrike">
                <a:solidFill>
                  <a:srgbClr val="000000"/>
                </a:solidFill>
                <a:latin typeface="Arial"/>
              </a:rPr>
              <a:t>MİLLET YÜRÜYECEK ARKANDAN.</a:t>
            </a:r>
            <a:br>
              <a:rPr sz="4000"/>
            </a:br>
            <a:br>
              <a:rPr sz="4000"/>
            </a:br>
            <a:r>
              <a:rPr b="1" lang="tr-TR" sz="4000" spc="-1" strike="noStrike">
                <a:solidFill>
                  <a:srgbClr val="000000"/>
                </a:solidFill>
                <a:latin typeface="Arial"/>
              </a:rPr>
              <a:t>NİYE KÜSTÜN BANA EL SÖZÜ İÇİN?</a:t>
            </a:r>
            <a:br>
              <a:rPr sz="4000"/>
            </a:br>
            <a:br>
              <a:rPr sz="4000"/>
            </a:br>
            <a:r>
              <a:rPr b="1" lang="tr-TR" sz="4000" spc="-1" strike="noStrike">
                <a:solidFill>
                  <a:srgbClr val="000000"/>
                </a:solidFill>
                <a:latin typeface="Arial"/>
              </a:rPr>
              <a:t>BARIŞ’IN DERSLERİ, İYİYMİŞ.</a:t>
            </a:r>
            <a:br>
              <a:rPr sz="4000"/>
            </a:br>
            <a:br>
              <a:rPr sz="4000"/>
            </a:br>
            <a:r>
              <a:rPr b="1" lang="tr-TR" sz="4000" spc="-1" strike="noStrike">
                <a:solidFill>
                  <a:srgbClr val="000000"/>
                </a:solidFill>
                <a:latin typeface="Arial"/>
              </a:rPr>
              <a:t>O GÜN HERKES ANLADI GERÇEĞİ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6T16:48:22Z</dcterms:created>
  <dc:creator>İBRAHİM</dc:creator>
  <dc:description/>
  <dc:language>en-US</dc:language>
  <cp:lastModifiedBy>İBRAHİM</cp:lastModifiedBy>
  <dcterms:modified xsi:type="dcterms:W3CDTF">2018-10-25T17:45:50Z</dcterms:modified>
  <cp:revision>106</cp:revision>
  <dc:subject/>
  <dc:title>KONU 1</dc:title>
</cp:coreProperties>
</file>